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922-3493-4565-BB18-73C25F36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0D2-E447-4FDD-BAA7-D6DEB1FD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6AE-7C0A-4B69-903E-6C199F92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BEB-61E1-4E04-974F-A40B717D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D7C-5C39-4D16-893B-3273B06C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F76-D2A9-4595-8154-1A2418A9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E49-532B-477C-A006-11311F59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8FF-1335-4B4A-8804-358672A1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CC4-4923-459E-BFEE-DAF03E07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884-1186-470A-81D8-BD459644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3E4-D0CA-4566-B7C9-C7F45B8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B1C-7B59-44C3-812F-3B4309C3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D75-7378-435F-8F7C-A5AB6B3597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主题班会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80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纪   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357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学们，你们认为世界上最自由的国家是哪个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8900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《素质教育在美国——留美博士眼里的中美教育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者黄全愈，广东教育出版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黄全愈先生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98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赴美留学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99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获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iam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大学“教育管理学”博士学位，专门研究中美教育的比较，他的答案应该是令人信服的。这本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Qulity education in Americ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》出版后，迅速畅销全国，反响很大。我们看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尽管在美国的校园里，允许五花八门的观点存在，但是，学生每天必须宣誓，而且人手一册校规。这是做也得做，不做也得做的“没商量”的“天条”。（第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页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涉及出勤、作业、体育、服装、行为规范等学校生活的各方面，条文繁琐，规定具体。（虽经作者删节，仍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页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以，我们可以肯定，美国的中小学不但有纪律，而且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同学们，当“真相大白”以后，大家一定深感意外，在号称最讲民主与人权的美国，中小学竟可以合法地体罚学生，停课是正大光明的，甚至有不让学生吃午点的规定，而且根本不讲道理。相比中国，美国的惩罚更严厉、更无情。这似乎是一个矛盾的结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深思一下，其实不然。俗语云“没有规矩，不成方圆”，“没有绝对的自由”。大家只要想想十字路口的人群和车流就会明白，如果都不遵守交通规则而自行其是，必然导致交通堵塞甚至车毁人亡的惨剧，绝对的自由必然带来绝对的混乱。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4928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所以，有纪律，才有真正的自由。或者说纪律是自由的保证。对于大家而言，纪律是学习的保证，也是安全的保证。不要一提纪律就只想到罚站、停课，只想到对老师的愤恨，甚至认为纪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整人，纪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惩罚。换个角度想想吧，严格的作息保证了你多少学习时间，科学的生活方式使你的身体如何强健，全面的防范使你消除了多少安全隐患。总之，遵规守纪会给你带来很多的好处，你必须感激纪律，感激惩罚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378900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二个问题：美国的中学有没有严厉的惩罚措施，比如罚站、停课、体罚甚至开除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罚站”，可能是一种具有世界性的惩罚手段…比起中国的学校来，美国学校里的罚站恐怕要来得容易些，量也更多些……而且站的姿势是有规定的。比如脚跟靠墙根或鼻子正对圆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抽烟严重危害健康。任何香烟或烟叶制品，以及打火机、火柴在学校的建筑、校车和学校的范围内任何时间都是禁止出现的！初犯被罚两个星期六学校；再犯将罚三天不能上学；第三次违犯，将罚五天不能上学；第四次违犯，十天不能上学，并被建议开除。（所谓星期六学校，就是在星期六上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9:00—12: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来学校学习或上课。因为美国学生实行双休日制度，星期六来校学习是一种仅次于不能来校上课的惩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62864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惩罚时根本不注重说理，甚至根本不说理。……既没有争辩的余地，也没有什么耐心细致的政治思想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惩罚就是惩罚！就像现在国内的许多交警罚违章车辆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8:01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1:20Z</dcterms:modified>
  <cp:revision>2</cp:revision>
  <dc:subject>主题班会课件(分28大类): http://shop62905894.taobao.com</dc:subject>
  <dc:title>主题班会课件(分28大类): http://shop62905894.taobao.com</dc:title>
</cp:coreProperties>
</file>